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B0C8E-ABA2-441E-B1FD-A459AC9C1D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C67AF-6C8F-442E-92D9-E9410910931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811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040" y="434340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ackground Desig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Design Template: Network Blitz:   8.1” Height by 10” wide; fill whole p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ab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5 boxes across and 6 boxes down: total of 30 boxes.  Position: edge of table touches both left and right edge of slide.  Top of table is 1” from top of page and bottom is 1” from bottom of p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eading of colum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Literary terms,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The Light in the Forest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Vocabulary, Test Taking Strategies, and Anything Goes: all in Arial font, size 22 and all centered justified all in yel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 seco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– fifth column, $100 - $500 dollar amount: Arial font, size 28 and all centered justified all in orange. All hyperlink to different pages throughout slide show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eading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Final Jeopardy!! In text box, .67”  horizontal and 0” vertical from top left hand corner.  Font: Arial Black 48 point font in yellow-oran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inal Jeopard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3.75” horizontally and 7” vertically from top left hand corner.  Arial font size 24, orange color.  Hyperlink to final Jeopardy page (last page of slide show.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4"/>
          <p:cNvSpPr/>
          <p:nvPr/>
        </p:nvSpPr>
        <p:spPr>
          <a:xfrm>
            <a:off x="838080" y="4114800"/>
            <a:ext cx="5639040" cy="3276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914400" y="7467480"/>
            <a:ext cx="5334120" cy="11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Principles: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Learning principle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: organization: 3.4: logically organized text: each piece is chunked into its own category.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Motivation principle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: each question gets harder as you go through, therefore, the students start off with the easier information and get a sense of accomplishment.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Rectangle 6"/>
          <p:cNvSpPr/>
          <p:nvPr/>
        </p:nvSpPr>
        <p:spPr>
          <a:xfrm>
            <a:off x="838080" y="7391520"/>
            <a:ext cx="5639040" cy="11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16C08-6767-4301-A67B-577B7707C4D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837720" y="4343400"/>
            <a:ext cx="533412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ackground Desig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Design Template: Network Blitz:   8.1” Height by 10” wide; fill whole p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itl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Literary Terms - $100: Position: .83” horizontally and 0.83” vertically from top left corner.  Font type: Arial Black size 48. Color: g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 box size: 4.5” height and 8” wide. Position: 1.08” horizontally and 2.08” vertically from top left corner.   Font: Arial, size 36 and color is whi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ext box: Position: 1.42” horizontally and 4.92” vertically from top left corner.  Font type: Times New Roman, size 44, color is white.  Action setting: fly from left on mouse click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ack Butt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lex Trebeck’s face.  Size 2.42”  height and 1.09” wide.  Position: 8.67.” horizontally and 4.58” vertically from top left corner.  Hyperlinked to first slide or game board slid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4"/>
          <p:cNvSpPr/>
          <p:nvPr/>
        </p:nvSpPr>
        <p:spPr>
          <a:xfrm>
            <a:off x="838080" y="4267080"/>
            <a:ext cx="5639040" cy="266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Text Box 5"/>
          <p:cNvSpPr/>
          <p:nvPr/>
        </p:nvSpPr>
        <p:spPr>
          <a:xfrm>
            <a:off x="838080" y="6934320"/>
            <a:ext cx="54864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inciples: Motivation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: there is immediate feedback to the students.  Setup in a game format making it more competitive. 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erception: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the rate of instruction is slow enough for students to determine the answer, yet quick enough so that they do not lose their focus. 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ligned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: all objects are aligned: the wording to the left and the picture to the right, based on the last letter or number in the titl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Rectangle 6"/>
          <p:cNvSpPr/>
          <p:nvPr/>
        </p:nvSpPr>
        <p:spPr>
          <a:xfrm>
            <a:off x="838080" y="6934320"/>
            <a:ext cx="5639040" cy="1523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07D4F-BE5A-4F99-890E-10E43463E95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4100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ackground Desig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Design Template: Network Blitz:   8.1” Height by 10” wide; fill whole p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itl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Literary Terms - $200: Position: .83” horizontally and 0.83” vertically from top left corner.  Font type: Arial Black size 48. Color: g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 box size: 4.5” height and 8” wide. Position: 1.08” horizontally and 2.08” vertically from top left corner.   Font: Arial, size 36 and color is whi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ext box: Position: 1.42” horizontally and 4.92” vertically from top left corner.  Font type: Times New Roman, size 44, color is white.  Action setting: fly from left on mouse click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ack Butt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lex Trebeck’s face.  Size 2.42”  height and 1.09” wide.  Position: 8.67.” horizontally and 4.58” vertically from top left corner.  Hyperlinked to first slide or game board slid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838080" y="4191120"/>
            <a:ext cx="5639040" cy="2743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Text Box 5"/>
          <p:cNvSpPr/>
          <p:nvPr/>
        </p:nvSpPr>
        <p:spPr>
          <a:xfrm>
            <a:off x="914400" y="7010280"/>
            <a:ext cx="5562720" cy="19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inciples: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tivation: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ositive Impression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: 5.2- Text on the page is kept to a minimum so that students wont be overwhelmed. Well organized and familiar with type size, style, etc. 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Readable Style: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6- Passages are small and to the point. Wording is familiar and comfortable; not over their heads.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Repetition: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all of the slides have the same style of text and the same background. 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lignment: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all of the wording objects are aligned to the left.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Rectangle 6"/>
          <p:cNvSpPr/>
          <p:nvPr/>
        </p:nvSpPr>
        <p:spPr>
          <a:xfrm>
            <a:off x="838080" y="6934320"/>
            <a:ext cx="5639040" cy="18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25599-CAAE-4DE7-8001-C127442557D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AEC3-D1D8-4466-BBE9-FFFDB73D9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8A27-6841-457D-9FFF-21B51CEA1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D84D-19FD-4115-B5AF-82E664B2D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9EB0-2B1F-4C41-A744-B7EA921C1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DA4A2-514B-4655-BCD5-F86A855B7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B55F7-AD56-4562-B2EB-49054CE72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07555-9E70-41A7-A4F2-AD9755266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95F6B-B70B-4158-946E-9E021DF66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2D00F-5587-4774-A140-AD6BED9A4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4E3C2-6BD9-4A67-8997-45124ED89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50355-DF9B-4CB4-BB65-0CF0BAE31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FF13-F133-4F7A-A082-747F0ADA3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4D93F-25CE-43CE-93ED-40D7FBBF5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901BB-CF94-4EE4-8A53-853984EE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5BA10-D4EC-42F9-8C37-485989D54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90B63-D6E1-45A8-984F-64F164615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4B803-5D02-45CE-8844-A913DE343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2A1A-BAD5-4FF7-A9BA-66E5775F5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D402-C7F5-4654-9093-CB107C6BE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C1FB-B611-4604-8614-EB3A1DA6D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C8C8-1E39-4FA1-A678-54C40C6C9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D671-88E7-4C65-A83E-B60D8AF67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F67C-BD99-47DA-ABD6-3B40B622B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1178-CD2D-4BC0-A2C4-6018E3486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4B8CC-141D-4ABB-B2D5-DD836C8A1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"/>
            <p:cNvSpPr/>
            <p:nvPr/>
          </p:nvSpPr>
          <p:spPr>
            <a:xfrm>
              <a:off x="2590920" y="-7920"/>
              <a:ext cx="2757240" cy="687852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4"/>
            <p:cNvSpPr/>
            <p:nvPr/>
          </p:nvSpPr>
          <p:spPr>
            <a:xfrm>
              <a:off x="0" y="-11160"/>
              <a:ext cx="2757600" cy="687240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5"/>
            <p:cNvSpPr/>
            <p:nvPr/>
          </p:nvSpPr>
          <p:spPr>
            <a:xfrm>
              <a:off x="5943600" y="-6480"/>
              <a:ext cx="2760840" cy="687384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6"/>
            <p:cNvSpPr/>
            <p:nvPr/>
          </p:nvSpPr>
          <p:spPr>
            <a:xfrm>
              <a:off x="3048120" y="-14400"/>
              <a:ext cx="3301920" cy="686448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7"/>
            <p:cNvSpPr/>
            <p:nvPr/>
          </p:nvSpPr>
          <p:spPr>
            <a:xfrm>
              <a:off x="185760" y="154080"/>
              <a:ext cx="556272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8"/>
            <p:cNvSpPr/>
            <p:nvPr/>
          </p:nvSpPr>
          <p:spPr>
            <a:xfrm flipH="1" rot="2703000">
              <a:off x="1285920" y="1215720"/>
              <a:ext cx="4038840" cy="16002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9"/>
            <p:cNvSpPr/>
            <p:nvPr/>
          </p:nvSpPr>
          <p:spPr>
            <a:xfrm>
              <a:off x="131760" y="77760"/>
              <a:ext cx="556272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0"/>
            <p:cNvSpPr/>
            <p:nvPr/>
          </p:nvSpPr>
          <p:spPr>
            <a:xfrm rot="18703800">
              <a:off x="-1562400" y="1652400"/>
              <a:ext cx="556272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1"/>
            <p:cNvSpPr/>
            <p:nvPr/>
          </p:nvSpPr>
          <p:spPr>
            <a:xfrm rot="19294800">
              <a:off x="2112840" y="1449000"/>
              <a:ext cx="5705640" cy="2754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2"/>
            <p:cNvSpPr/>
            <p:nvPr/>
          </p:nvSpPr>
          <p:spPr>
            <a:xfrm flipH="1" rot="2085000">
              <a:off x="2950920" y="1372680"/>
              <a:ext cx="5562360" cy="24386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3"/>
            <p:cNvSpPr/>
            <p:nvPr/>
          </p:nvSpPr>
          <p:spPr>
            <a:xfrm>
              <a:off x="6746760" y="-11160"/>
              <a:ext cx="1729080" cy="3627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4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15"/>
            <p:cNvSpPr/>
            <p:nvPr/>
          </p:nvSpPr>
          <p:spPr>
            <a:xfrm>
              <a:off x="2590920" y="3948120"/>
              <a:ext cx="2757240" cy="60624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16"/>
            <p:cNvSpPr/>
            <p:nvPr/>
          </p:nvSpPr>
          <p:spPr>
            <a:xfrm>
              <a:off x="0" y="3948120"/>
              <a:ext cx="2757600" cy="60480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17"/>
            <p:cNvSpPr/>
            <p:nvPr/>
          </p:nvSpPr>
          <p:spPr>
            <a:xfrm>
              <a:off x="5943600" y="3948120"/>
              <a:ext cx="2760840" cy="60624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3048120" y="3948120"/>
              <a:ext cx="3301920" cy="60480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19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0"/>
            <p:cNvSpPr/>
            <p:nvPr/>
          </p:nvSpPr>
          <p:spPr>
            <a:xfrm>
              <a:off x="4100400" y="3887640"/>
              <a:ext cx="1644840" cy="6667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1"/>
            <p:cNvSpPr/>
            <p:nvPr/>
          </p:nvSpPr>
          <p:spPr>
            <a:xfrm flipH="1" rot="18897000">
              <a:off x="2358720" y="3836880"/>
              <a:ext cx="1683000" cy="7617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22"/>
            <p:cNvSpPr/>
            <p:nvPr/>
          </p:nvSpPr>
          <p:spPr>
            <a:xfrm flipH="1" rot="18897000">
              <a:off x="1215720" y="3836880"/>
              <a:ext cx="1683000" cy="7617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23"/>
            <p:cNvSpPr/>
            <p:nvPr/>
          </p:nvSpPr>
          <p:spPr>
            <a:xfrm flipH="1" rot="18897000">
              <a:off x="47160" y="3786840"/>
              <a:ext cx="1641600" cy="772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24"/>
            <p:cNvSpPr/>
            <p:nvPr/>
          </p:nvSpPr>
          <p:spPr>
            <a:xfrm flipH="1" flipV="1">
              <a:off x="913680" y="3874320"/>
              <a:ext cx="563868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25"/>
            <p:cNvSpPr/>
            <p:nvPr/>
          </p:nvSpPr>
          <p:spPr>
            <a:xfrm flipH="1" flipV="1">
              <a:off x="380520" y="3874320"/>
              <a:ext cx="243864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26"/>
            <p:cNvSpPr/>
            <p:nvPr/>
          </p:nvSpPr>
          <p:spPr>
            <a:xfrm flipH="1" flipV="1">
              <a:off x="4819680" y="3950640"/>
              <a:ext cx="2114640" cy="6080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27"/>
            <p:cNvSpPr/>
            <p:nvPr/>
          </p:nvSpPr>
          <p:spPr>
            <a:xfrm flipH="1" flipV="1">
              <a:off x="6324480" y="3874320"/>
              <a:ext cx="243864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28"/>
            <p:cNvSpPr/>
            <p:nvPr/>
          </p:nvSpPr>
          <p:spPr>
            <a:xfrm flipH="1" flipV="1">
              <a:off x="5486400" y="3874320"/>
              <a:ext cx="365760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29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30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31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32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66B08-4DEB-4B91-891F-0C4857045E8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7.xml"/><Relationship Id="rId3" Type="http://schemas.openxmlformats.org/officeDocument/2006/relationships/slide" Target="slide12.xml"/><Relationship Id="rId4" Type="http://schemas.openxmlformats.org/officeDocument/2006/relationships/slide" Target="slide17.xml"/><Relationship Id="rId5" Type="http://schemas.openxmlformats.org/officeDocument/2006/relationships/slide" Target="slide22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23.xml"/><Relationship Id="rId11" Type="http://schemas.openxmlformats.org/officeDocument/2006/relationships/slide" Target="slide4.xml"/><Relationship Id="rId12" Type="http://schemas.openxmlformats.org/officeDocument/2006/relationships/slide" Target="slide9.xml"/><Relationship Id="rId13" Type="http://schemas.openxmlformats.org/officeDocument/2006/relationships/slide" Target="slide14.xml"/><Relationship Id="rId14" Type="http://schemas.openxmlformats.org/officeDocument/2006/relationships/slide" Target="slide19.xml"/><Relationship Id="rId15" Type="http://schemas.openxmlformats.org/officeDocument/2006/relationships/slide" Target="slide24.xml"/><Relationship Id="rId16" Type="http://schemas.openxmlformats.org/officeDocument/2006/relationships/slide" Target="slide5.xml"/><Relationship Id="rId17" Type="http://schemas.openxmlformats.org/officeDocument/2006/relationships/slide" Target="slide10.xml"/><Relationship Id="rId18" Type="http://schemas.openxmlformats.org/officeDocument/2006/relationships/slide" Target="slide15.xml"/><Relationship Id="rId19" Type="http://schemas.openxmlformats.org/officeDocument/2006/relationships/slide" Target="slide20.xml"/><Relationship Id="rId20" Type="http://schemas.openxmlformats.org/officeDocument/2006/relationships/slide" Target="slide25.xml"/><Relationship Id="rId21" Type="http://schemas.openxmlformats.org/officeDocument/2006/relationships/slide" Target="slide6.xml"/><Relationship Id="rId22" Type="http://schemas.openxmlformats.org/officeDocument/2006/relationships/slide" Target="slide11.xml"/><Relationship Id="rId23" Type="http://schemas.openxmlformats.org/officeDocument/2006/relationships/slide" Target="slide16.xml"/><Relationship Id="rId24" Type="http://schemas.openxmlformats.org/officeDocument/2006/relationships/slide" Target="slide21.xml"/><Relationship Id="rId25" Type="http://schemas.openxmlformats.org/officeDocument/2006/relationships/slide" Target="slide26.xml"/><Relationship Id="rId26" Type="http://schemas.openxmlformats.org/officeDocument/2006/relationships/slide" Target="slide27.xml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JEOPARDY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0" y="914400"/>
          <a:ext cx="9144000" cy="5062680"/>
        </p:xfrm>
        <a:graphic>
          <a:graphicData uri="http://schemas.openxmlformats.org/drawingml/2006/table">
            <a:tbl>
              <a:tblPr/>
              <a:tblGrid>
                <a:gridCol w="1844640"/>
                <a:gridCol w="1924200"/>
                <a:gridCol w="1717560"/>
                <a:gridCol w="1843200"/>
                <a:gridCol w="181440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frica (1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frica (2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ap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ncient Geograph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urrent Even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$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$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$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$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$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$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$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$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$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$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$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$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$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$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$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$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$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$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$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$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$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$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23" action="ppaction://hlinksldjump"/>
                        </a:rPr>
                        <a:t>$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24" action="ppaction://hlinksldjump"/>
                        </a:rPr>
                        <a:t>$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25" action="ppaction://hlinksldjump"/>
                        </a:rPr>
                        <a:t>$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Text Box 133"/>
          <p:cNvSpPr/>
          <p:nvPr/>
        </p:nvSpPr>
        <p:spPr>
          <a:xfrm>
            <a:off x="3429000" y="64008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98d43"/>
                </a:solidFill>
                <a:uFillTx/>
                <a:latin typeface="Arial"/>
                <a:hlinkClick r:id="rId26" action="ppaction://hlinksldjump"/>
              </a:rPr>
              <a:t>Final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the largest country in Africa? What country is to the north of this country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1066680" y="434340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dan; Egyp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914400" y="80784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Africa (2)- $400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95" name="Picture 5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162920" y="4222800"/>
            <a:ext cx="198108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914400" y="4876920"/>
            <a:ext cx="60199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914400" y="4348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Africa (2)- $500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99" name="Picture 11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7162920" y="4222800"/>
            <a:ext cx="1981080" cy="2635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"/>
          <p:cNvPicPr/>
          <p:nvPr/>
        </p:nvPicPr>
        <p:blipFill>
          <a:blip r:embed="rId2"/>
          <a:stretch/>
        </p:blipFill>
        <p:spPr>
          <a:xfrm>
            <a:off x="1981080" y="1828800"/>
            <a:ext cx="3657600" cy="4130640"/>
          </a:xfrm>
          <a:prstGeom prst="rect">
            <a:avLst/>
          </a:prstGeom>
          <a:ln w="0">
            <a:noFill/>
          </a:ln>
        </p:spPr>
      </p:pic>
      <p:sp>
        <p:nvSpPr>
          <p:cNvPr id="201" name="TextBox 7"/>
          <p:cNvSpPr/>
          <p:nvPr/>
        </p:nvSpPr>
        <p:spPr>
          <a:xfrm>
            <a:off x="4267080" y="2971800"/>
            <a:ext cx="49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Box 8"/>
          <p:cNvSpPr/>
          <p:nvPr/>
        </p:nvSpPr>
        <p:spPr>
          <a:xfrm>
            <a:off x="4804200" y="3200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Box 9"/>
          <p:cNvSpPr/>
          <p:nvPr/>
        </p:nvSpPr>
        <p:spPr>
          <a:xfrm>
            <a:off x="5337000" y="3352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TextBox 10"/>
          <p:cNvSpPr/>
          <p:nvPr/>
        </p:nvSpPr>
        <p:spPr>
          <a:xfrm>
            <a:off x="31240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Box 11"/>
          <p:cNvSpPr/>
          <p:nvPr/>
        </p:nvSpPr>
        <p:spPr>
          <a:xfrm>
            <a:off x="4118400" y="5410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TextBox 15"/>
          <p:cNvSpPr/>
          <p:nvPr/>
        </p:nvSpPr>
        <p:spPr>
          <a:xfrm>
            <a:off x="380880" y="5904000"/>
            <a:ext cx="57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– Sudan; B – Ethiopia; C – Somalia; D – Nigeria; E – South Afr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871200"/>
            <a:ext cx="746784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Maps - $100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ame three European countri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1066680" y="5334120"/>
            <a:ext cx="51055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0" name="Picture 5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162920" y="4222800"/>
            <a:ext cx="1981080" cy="26352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" descr=""/>
          <p:cNvPicPr/>
          <p:nvPr/>
        </p:nvPicPr>
        <p:blipFill>
          <a:blip r:embed="rId3"/>
          <a:stretch/>
        </p:blipFill>
        <p:spPr>
          <a:xfrm>
            <a:off x="1143000" y="3200400"/>
            <a:ext cx="50292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7156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Maps - $200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1295280" y="4952880"/>
            <a:ext cx="54864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– Desert;  B – Savan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- Rainforest; D – Savanna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 - Deser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5" name="Picture 5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7162920" y="4222800"/>
            <a:ext cx="1981080" cy="26352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Africa-large-BW.png"/>
          <p:cNvPicPr/>
          <p:nvPr/>
        </p:nvPicPr>
        <p:blipFill>
          <a:blip r:embed="rId2"/>
          <a:stretch/>
        </p:blipFill>
        <p:spPr>
          <a:xfrm>
            <a:off x="1143000" y="1981080"/>
            <a:ext cx="3809880" cy="3048120"/>
          </a:xfrm>
          <a:prstGeom prst="rect">
            <a:avLst/>
          </a:prstGeom>
          <a:ln w="0">
            <a:noFill/>
          </a:ln>
        </p:spPr>
      </p:pic>
      <p:sp>
        <p:nvSpPr>
          <p:cNvPr id="217" name="TextBox 7"/>
          <p:cNvSpPr/>
          <p:nvPr/>
        </p:nvSpPr>
        <p:spPr>
          <a:xfrm>
            <a:off x="3200400" y="2362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TextBox 8"/>
          <p:cNvSpPr/>
          <p:nvPr/>
        </p:nvSpPr>
        <p:spPr>
          <a:xfrm>
            <a:off x="3200400" y="2819520"/>
            <a:ext cx="3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Box 9"/>
          <p:cNvSpPr/>
          <p:nvPr/>
        </p:nvSpPr>
        <p:spPr>
          <a:xfrm>
            <a:off x="3204000" y="33526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TextBox 10"/>
          <p:cNvSpPr/>
          <p:nvPr/>
        </p:nvSpPr>
        <p:spPr>
          <a:xfrm>
            <a:off x="3124080" y="3886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TextBox 11"/>
          <p:cNvSpPr/>
          <p:nvPr/>
        </p:nvSpPr>
        <p:spPr>
          <a:xfrm>
            <a:off x="3124080" y="4495680"/>
            <a:ext cx="6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Maps - $300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990720" y="5410080"/>
            <a:ext cx="5715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razil, Peru, Argentina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hi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5" name="Picture 5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7162920" y="4222800"/>
            <a:ext cx="1981080" cy="26352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Picture 5.png"/>
          <p:cNvPicPr/>
          <p:nvPr/>
        </p:nvPicPr>
        <p:blipFill>
          <a:blip r:embed="rId2"/>
          <a:stretch/>
        </p:blipFill>
        <p:spPr>
          <a:xfrm>
            <a:off x="1219320" y="1600200"/>
            <a:ext cx="5715000" cy="3813120"/>
          </a:xfrm>
          <a:prstGeom prst="rect">
            <a:avLst/>
          </a:prstGeom>
          <a:ln w="0">
            <a:noFill/>
          </a:ln>
        </p:spPr>
      </p:pic>
      <p:sp>
        <p:nvSpPr>
          <p:cNvPr id="227" name="TextBox 6"/>
          <p:cNvSpPr/>
          <p:nvPr/>
        </p:nvSpPr>
        <p:spPr>
          <a:xfrm>
            <a:off x="4808160" y="2666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TextBox 7"/>
          <p:cNvSpPr/>
          <p:nvPr/>
        </p:nvSpPr>
        <p:spPr>
          <a:xfrm>
            <a:off x="2594160" y="2666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TextBox 8"/>
          <p:cNvSpPr/>
          <p:nvPr/>
        </p:nvSpPr>
        <p:spPr>
          <a:xfrm>
            <a:off x="3584880" y="3733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extBox 9"/>
          <p:cNvSpPr/>
          <p:nvPr/>
        </p:nvSpPr>
        <p:spPr>
          <a:xfrm>
            <a:off x="2974680" y="3429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57168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Maps - $400 (Daily Triple)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380880" y="5867280"/>
            <a:ext cx="6400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- Bedford; B – Somerset; C – Camb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– Blair; E – Huntingdon; F - Fult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4" name="Picture 5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7162920" y="4222800"/>
            <a:ext cx="1981080" cy="26352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6" descr="Picture 6.png"/>
          <p:cNvPicPr/>
          <p:nvPr/>
        </p:nvPicPr>
        <p:blipFill>
          <a:blip r:embed="rId2"/>
          <a:stretch/>
        </p:blipFill>
        <p:spPr>
          <a:xfrm>
            <a:off x="228600" y="1523880"/>
            <a:ext cx="6781680" cy="4343400"/>
          </a:xfrm>
          <a:prstGeom prst="rect">
            <a:avLst/>
          </a:prstGeom>
          <a:ln w="0">
            <a:noFill/>
          </a:ln>
        </p:spPr>
      </p:pic>
      <p:sp>
        <p:nvSpPr>
          <p:cNvPr id="236" name="TextBox 7"/>
          <p:cNvSpPr/>
          <p:nvPr/>
        </p:nvSpPr>
        <p:spPr>
          <a:xfrm>
            <a:off x="2369880" y="4952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TextBox 8"/>
          <p:cNvSpPr/>
          <p:nvPr/>
        </p:nvSpPr>
        <p:spPr>
          <a:xfrm>
            <a:off x="1832400" y="4952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TextBox 9"/>
          <p:cNvSpPr/>
          <p:nvPr/>
        </p:nvSpPr>
        <p:spPr>
          <a:xfrm>
            <a:off x="2213280" y="40384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TextBox 10"/>
          <p:cNvSpPr/>
          <p:nvPr/>
        </p:nvSpPr>
        <p:spPr>
          <a:xfrm>
            <a:off x="2517480" y="4191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TextBox 11"/>
          <p:cNvSpPr/>
          <p:nvPr/>
        </p:nvSpPr>
        <p:spPr>
          <a:xfrm>
            <a:off x="3051360" y="44197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44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TextBox 12"/>
          <p:cNvSpPr/>
          <p:nvPr/>
        </p:nvSpPr>
        <p:spPr>
          <a:xfrm>
            <a:off x="2822040" y="5105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79200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Maps  - $500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1066680" y="5181480"/>
            <a:ext cx="571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a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5" name="Picture 12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7162920" y="4222800"/>
            <a:ext cx="1981080" cy="26352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5" descr="Picture 2.png"/>
          <p:cNvPicPr/>
          <p:nvPr/>
        </p:nvPicPr>
        <p:blipFill>
          <a:blip r:embed="rId2"/>
          <a:stretch/>
        </p:blipFill>
        <p:spPr>
          <a:xfrm>
            <a:off x="838080" y="2057400"/>
            <a:ext cx="6400800" cy="31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90720" y="8380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Ancient Geography- $100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was the time period of history that saw a re-birth in learning?  (Middle Ages or the Renaissa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1066680" y="4495680"/>
            <a:ext cx="594360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ffffff"/>
                </a:solidFill>
                <a:latin typeface="Times New Roman"/>
              </a:rPr>
              <a:t>Renaissance</a:t>
            </a:r>
            <a:endParaRPr b="0" lang="en-US" sz="5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0" name="Picture 5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086600" y="4121280"/>
            <a:ext cx="20574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largest country in the world in regards to land size? (Russia, Canada, Brazil, Sudan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1066680" y="4800600"/>
            <a:ext cx="601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Canada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title"/>
          </p:nvPr>
        </p:nvSpPr>
        <p:spPr>
          <a:xfrm>
            <a:off x="990720" y="8380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Ancient Geography- $200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54" name="Picture 5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162920" y="4222800"/>
            <a:ext cx="198108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90 % of Mexico’s people follow what religion?  (Islam; Roman Catholic; Buddhism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1143000" y="464832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oman Catholi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title"/>
          </p:nvPr>
        </p:nvSpPr>
        <p:spPr>
          <a:xfrm>
            <a:off x="990720" y="8380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Ancient Geography- $300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58" name="Picture 5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086600" y="4121280"/>
            <a:ext cx="20574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82224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Africa (1) - $100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90360" y="19051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has a problem with pirates in Africa?  (Sudan, Somalia, Ethiopia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1447920" y="4267080"/>
            <a:ext cx="4876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Somalia</a:t>
            </a: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Picture 5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162920" y="4222800"/>
            <a:ext cx="198108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was the time known as when people used machinery and new methods to increase productivity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914400" y="464832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dustrial Rev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990720" y="5587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Ancient Geography- $400</a:t>
            </a:r>
            <a:br>
              <a:rPr sz="3600"/>
            </a:b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Daily Double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62" name="Picture 5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086600" y="4121280"/>
            <a:ext cx="20574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the region that makes up 77% of Russia?  This part of Russia lies east of the Ural Mountain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838080" y="4343400"/>
            <a:ext cx="5943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imes New Roman"/>
              </a:rPr>
              <a:t>Siberia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990720" y="896760"/>
            <a:ext cx="7772400" cy="52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ncient Geography- $500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66" name="Picture 6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086600" y="4121280"/>
            <a:ext cx="20574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3520" y="762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urrent Events- $100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nation is allowing the U.S. to fly drones over their land to check for drug smuggling operations:  Mexico, Canada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1219320" y="4648320"/>
            <a:ext cx="45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Mexico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0" name="Picture 5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086600" y="4121280"/>
            <a:ext cx="20574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urrent Events - $200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cellular company will buy T-Mobile in a $39 billion deal to make the largest cell phone company in the United States: AT &amp; T; Sprin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1066680" y="4876920"/>
            <a:ext cx="6324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AT &amp; T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4" name="Picture 5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315200" y="4425840"/>
            <a:ext cx="1828800" cy="24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762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urrent Events- $300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f the coast of what African nation were a Danish couple and their three children recently kidnapped by pirates as they sailed around the world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 Box 4"/>
          <p:cNvSpPr/>
          <p:nvPr/>
        </p:nvSpPr>
        <p:spPr>
          <a:xfrm>
            <a:off x="990720" y="4343400"/>
            <a:ext cx="6476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Somalia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8" name="Picture 5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086600" y="4121280"/>
            <a:ext cx="20574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urrent Events - $400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7162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bya and their leader Qaddafi have been in the world news for many days.  Libya is bordered to the north by what large body of water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1295280" y="4800600"/>
            <a:ext cx="6400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Mediterranean Sea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2" name="Picture 5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7238880" y="4324320"/>
            <a:ext cx="190512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urrent Events- $500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irst day of the war in Libya cost the United States $100 million.  Most of the expense was on what:  cash payments to Libyan rebels to get Qaddafi; missiles; British ground spies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838080" y="4952880"/>
            <a:ext cx="586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Missil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Picture 5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238880" y="4324320"/>
            <a:ext cx="190512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-533520" y="762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Final Jeopardy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0102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reate a thesis statement out of the questions below.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Picture 4" descr="alex_no_stash_no_background"/>
          <p:cNvPicPr/>
          <p:nvPr/>
        </p:nvPicPr>
        <p:blipFill>
          <a:blip r:embed="rId2"/>
          <a:stretch/>
        </p:blipFill>
        <p:spPr>
          <a:xfrm>
            <a:off x="7696080" y="4572000"/>
            <a:ext cx="1028880" cy="228600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5"/>
          <p:cNvSpPr/>
          <p:nvPr/>
        </p:nvSpPr>
        <p:spPr>
          <a:xfrm>
            <a:off x="609480" y="3505320"/>
            <a:ext cx="65534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lain why True Son was frightened to return to the Butler hou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74592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Africa (1) - $200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country controlled South Africa by the end of the 1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entury?  (Great Britain, Argentina, German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1295280" y="4876920"/>
            <a:ext cx="624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Great Britai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Picture 5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162920" y="4222800"/>
            <a:ext cx="198108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82980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Africa (1) - $300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the most industrialized country in Africa?  It is the world’s largest exporter and producer of gol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371600" y="449568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outh Afric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5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162920" y="4222800"/>
            <a:ext cx="198108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758880"/>
            <a:ext cx="777240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Africa (1)  - 400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country is shaped like the number 7?  Also, what is the major religion of this country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1523880" y="4267080"/>
            <a:ext cx="579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omalia / Islam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Picture 5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7162920" y="4222800"/>
            <a:ext cx="198108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3520" y="79200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Africa (1)-$500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838080" y="5181480"/>
            <a:ext cx="7162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– Egypt    B – Libya    C – Tunisia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 -  Algeria   E - Morocc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Picture 5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7162920" y="4222800"/>
            <a:ext cx="1981080" cy="2635200"/>
          </a:xfrm>
          <a:prstGeom prst="rect">
            <a:avLst/>
          </a:prstGeom>
          <a:ln w="0">
            <a:noFill/>
          </a:ln>
        </p:spPr>
      </p:pic>
      <p:sp>
        <p:nvSpPr>
          <p:cNvPr id="171" name="TextBox 6"/>
          <p:cNvSpPr/>
          <p:nvPr/>
        </p:nvSpPr>
        <p:spPr>
          <a:xfrm>
            <a:off x="3429000" y="2209680"/>
            <a:ext cx="4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Box 8"/>
          <p:cNvSpPr/>
          <p:nvPr/>
        </p:nvSpPr>
        <p:spPr>
          <a:xfrm>
            <a:off x="442296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Box 10"/>
          <p:cNvSpPr/>
          <p:nvPr/>
        </p:nvSpPr>
        <p:spPr>
          <a:xfrm>
            <a:off x="1984680" y="3886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Picture 10" descr="Picture 1.png"/>
          <p:cNvPicPr/>
          <p:nvPr/>
        </p:nvPicPr>
        <p:blipFill>
          <a:blip r:embed="rId2"/>
          <a:stretch/>
        </p:blipFill>
        <p:spPr>
          <a:xfrm>
            <a:off x="1143000" y="2209680"/>
            <a:ext cx="5791320" cy="2540160"/>
          </a:xfrm>
          <a:prstGeom prst="rect">
            <a:avLst/>
          </a:prstGeom>
          <a:ln w="0">
            <a:noFill/>
          </a:ln>
        </p:spPr>
      </p:pic>
      <p:sp>
        <p:nvSpPr>
          <p:cNvPr id="175" name="TextBox 11"/>
          <p:cNvSpPr/>
          <p:nvPr/>
        </p:nvSpPr>
        <p:spPr>
          <a:xfrm>
            <a:off x="4343400" y="3581280"/>
            <a:ext cx="49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Box 12"/>
          <p:cNvSpPr/>
          <p:nvPr/>
        </p:nvSpPr>
        <p:spPr>
          <a:xfrm>
            <a:off x="366120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Box 13"/>
          <p:cNvSpPr/>
          <p:nvPr/>
        </p:nvSpPr>
        <p:spPr>
          <a:xfrm>
            <a:off x="3127680" y="2971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Box 14"/>
          <p:cNvSpPr/>
          <p:nvPr/>
        </p:nvSpPr>
        <p:spPr>
          <a:xfrm>
            <a:off x="2746080" y="3505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1828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80784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Africa (2)-$100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rue or False.  An enclave is a small country located inside a larger country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1295280" y="5029200"/>
            <a:ext cx="6324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imes New Roman"/>
              </a:rPr>
              <a:t>True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Picture 5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162920" y="4222800"/>
            <a:ext cx="198108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country has the lowest life expectancy in the world at 31 years of age?  (South Africa, Swaziland, Somali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1219320" y="434340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wazilan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914400" y="80784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Africa (2)- $200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87" name="Picture 5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162920" y="4222800"/>
            <a:ext cx="198108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the term known as when there was racial discrimination created by the whites from 1948 to 1994?  (Segregation, Apartheid, Separation Theor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1371600" y="388620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partheid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914400" y="804960"/>
            <a:ext cx="777240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Africa (2) – 300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91" name="Picture 5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7162920" y="4222800"/>
            <a:ext cx="198108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5T12:59:01Z</dcterms:created>
  <dc:creator>Student</dc:creator>
  <dc:description/>
  <dc:language>en-US</dc:language>
  <cp:lastModifiedBy>Tom Otis</cp:lastModifiedBy>
  <dcterms:modified xsi:type="dcterms:W3CDTF">2011-04-05T14:02:45Z</dcterms:modified>
  <cp:revision>137</cp:revision>
  <dc:subject/>
  <dc:title>Jeopardy</dc:title>
</cp:coreProperties>
</file>